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D176-3A6E-46C8-83BE-7B5B9396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B5C7-6D48-4E58-BE7B-8B309FFD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9F11-1A0F-49B7-A798-D45DEA2D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D3C9-C906-40ED-A889-E1A57525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6DB7-BDB9-4BEC-B49D-A960DFCE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0066-AE4C-4C4A-8651-C84DBB57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824-A1A2-410C-87BB-ACD9D79F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E795-0F6B-4F8D-B31C-15E006CD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71D-1A1C-480B-95C5-B791F966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314-EC0A-44C9-AC5D-E7AC7513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ED6D-0E9C-4EC6-9E2C-CA1D3EFB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A0B2-59FB-41CE-B3FF-5C43A495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2B78-94FE-4EAE-8381-7A8896276B7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SELHO NACIONAL DE RECURSOS HIDRICO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âmara Técnica de Educação, Capacitação, Mobilizaçação Social e INformação em Recursos Hidricos - CTEM</a:t>
            </a:r>
            <a:br>
              <a:rPr sz="2000"/>
            </a:b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rupo de Trabalho de Capacitação e Educ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4653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o questionário aplicado na Oficina realizada no Encontro Nacional de Comitês de Bacia/2006 em Vila Velha/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5364000" y="0"/>
            <a:ext cx="3780000" cy="6858000"/>
            <a:chOff x="5364000" y="0"/>
            <a:chExt cx="3780000" cy="6858000"/>
          </a:xfrm>
        </p:grpSpPr>
        <p:graphicFrame>
          <p:nvGraphicFramePr>
            <p:cNvPr id="44" name=""/>
            <p:cNvGraphicFramePr/>
            <p:nvPr/>
          </p:nvGraphicFramePr>
          <p:xfrm>
            <a:off x="5364000" y="4581360"/>
            <a:ext cx="3780000" cy="22766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64000" y="4581360"/>
                      <a:ext cx="3780000" cy="22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" name=""/>
            <p:cNvGraphicFramePr/>
            <p:nvPr/>
          </p:nvGraphicFramePr>
          <p:xfrm>
            <a:off x="5508720" y="3154320"/>
            <a:ext cx="3635280" cy="22194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08720" y="3154320"/>
                      <a:ext cx="3635280" cy="22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" name=""/>
            <p:cNvGraphicFramePr/>
            <p:nvPr/>
          </p:nvGraphicFramePr>
          <p:xfrm>
            <a:off x="5724360" y="0"/>
            <a:ext cx="3313440" cy="206856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24360" y="0"/>
                      <a:ext cx="3313440" cy="20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"/>
            <p:cNvGraphicFramePr/>
            <p:nvPr/>
          </p:nvGraphicFramePr>
          <p:xfrm>
            <a:off x="5580000" y="1484280"/>
            <a:ext cx="3564000" cy="239256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80000" y="1484280"/>
                      <a:ext cx="3564000" cy="239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6804000" y="333360"/>
              <a:ext cx="113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entro Oes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20360" y="1773360"/>
              <a:ext cx="81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udes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66160" y="364500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u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48720" y="5013360"/>
              <a:ext cx="84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Nordes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45370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cipantes por Região e Seg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5589720"/>
            <a:ext cx="352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88 questionarios respond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72 respostas vali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413000"/>
          <a:ext cx="5905440" cy="4163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1413000"/>
                    <a:ext cx="5905440" cy="41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96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a pergunta: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cipou dos debates doPlano Nacional de Recursos Hidricos (   )? da Conferência Nacional de Meio Ambiente (   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00000" y="1665360"/>
          <a:ext cx="7272360" cy="414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65360"/>
                    <a:ext cx="7272360" cy="41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87240" y="6116760"/>
            <a:ext cx="409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s: houve ocorrência de respostas dup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42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a pergunta: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balha com capacitação em Recursos Hidricos (   )? Em seu comitê (   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5876640"/>
            <a:ext cx="6120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s: Houve ocorrência de respostas dup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55640" y="1484280"/>
          <a:ext cx="7129440" cy="42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84280"/>
                    <a:ext cx="7129440" cy="42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772400" cy="5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a pergunta: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á quanto tempo participa do Comitê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24000" y="1484280"/>
          <a:ext cx="770400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770400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uais os principais instrumentos e ações de capacitação e educação desenvolvidos no seu comitê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940000" y="1700280"/>
            <a:ext cx="28083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nos de 10% indicaram programas especificos realizados pelo Comit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9280" y="836640"/>
          <a:ext cx="5761080" cy="574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5761080" cy="57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931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o seu Comitê tem equacionado o financiamento para as ações de capacitação e educação em recursos hidric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11280" y="692280"/>
          <a:ext cx="5616360" cy="5905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692280"/>
                    <a:ext cx="561636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uais os principais públicos envolvidos nas ações de capacitação e educação em seu Comitê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0920" y="765000"/>
          <a:ext cx="7561080" cy="6093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765000"/>
                    <a:ext cx="756108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6:23:12Z</dcterms:created>
  <dc:creator> bagapito</dc:creator>
  <dc:description/>
  <dc:language>en-US</dc:language>
  <cp:lastModifiedBy>Residencial</cp:lastModifiedBy>
  <dcterms:modified xsi:type="dcterms:W3CDTF">2006-09-14T02:10:39Z</dcterms:modified>
  <cp:revision>7</cp:revision>
  <dc:subject/>
  <dc:title>Slide 1</dc:title>
</cp:coreProperties>
</file>